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B73-C9DB-4F58-A98E-1F55C135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296-7809-4D23-AF19-C0A3562E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358-C7F7-4274-9EBA-8FE82B33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958-71F3-4FCE-9E9E-562848ED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640-2ECC-4113-976C-6A7138EC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671-6798-4A39-BBC5-79EED12E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23B-ABF8-40DB-89D4-F3362085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F98-EB48-430A-9EFB-6035BF9F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14E-1158-4D94-B8F1-81E58B21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5D7-17FA-4D69-BCC2-A82B2463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80C-6A16-4899-8F90-90AAA0A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253-3F2E-4A28-9FBE-2F5196A7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83EF-3884-4D9B-B27B-A4437B7BE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asa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or: Arpitha Sundararaj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1055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garaje. Es antiguo 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5105520" cy="32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acias!!!!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 cab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abaña. Es grande y fabul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57200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ocina. Es agradable y peque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4343400" cy="339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omedor. Es muy boni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sala. Es bello y vi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cuarto. Es moderno y pequeñ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361944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Bañ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Baño. Es lujoso 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atio. Es impresion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3276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Jardin. Mi Jardin es magnifico y fabulo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52880" y="2590920"/>
            <a:ext cx="277344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7:14Z</dcterms:created>
  <dc:creator>sundararajanarp</dc:creator>
  <dc:description/>
  <dc:language>en-US</dc:language>
  <cp:lastModifiedBy>sundararajanarp</cp:lastModifiedBy>
  <dcterms:modified xsi:type="dcterms:W3CDTF">2013-04-02T12:41:01Z</dcterms:modified>
  <cp:revision>5</cp:revision>
  <dc:subject/>
  <dc:title>La Casa  By: Arpitha Sundararajan</dc:title>
</cp:coreProperties>
</file>